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99283"/>
        <c:axId val="63757838"/>
      </c:barChart>
      <c:catAx>
        <c:axId val="697992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57838"/>
        <c:crosses val="autoZero"/>
        <c:auto val="1"/>
        <c:lblAlgn val="ctr"/>
        <c:lblOffset val="100"/>
        <c:noMultiLvlLbl val="0"/>
      </c:catAx>
      <c:valAx>
        <c:axId val="637578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992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3DF1-DE51-49C8-BC09-1A52CEE9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9EA3-C5AA-4315-ADC4-C7329F91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9250-4316-4977-822A-FF37A249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C771-3EA4-4FFD-919B-A1F3F7BD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7552-3B8F-4F87-9FF4-07F28B18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0F41-C132-4CB6-AE83-DDD10DDD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4666-D85C-4693-8263-FF12F052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0AC5-0C4E-4C03-A376-F2A14A70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62B9-10D2-4551-87FC-24DE4F17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1D76-B319-4A98-9527-963ED062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52DC-DD2E-4D7D-A27E-FAA0646C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AA48-6CEB-4C3C-90B9-1DFBE1F7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841B8-1C1E-4A58-84BC-E3EF9A7D95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