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22079"/>
        <c:axId val="78638886"/>
      </c:barChart>
      <c:catAx>
        <c:axId val="49220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38886"/>
        <c:crosses val="autoZero"/>
        <c:auto val="1"/>
        <c:lblAlgn val="ctr"/>
        <c:lblOffset val="100"/>
        <c:noMultiLvlLbl val="0"/>
      </c:catAx>
      <c:valAx>
        <c:axId val="786388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20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D9FF-8405-4D52-8DA0-7EFA3A51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797E-AA28-48F3-87EA-ED68A384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0E9D-5310-4E8A-AB1F-46C00839C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FA81-D557-4232-9F63-5BEF82AD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6D42-F69E-48B6-B0FA-095F393B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1E75-2E18-46A0-B81B-1DAE62F9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145B-899A-470A-9603-9A5BF1AA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C329-6F3C-48BB-9B05-B9CBCA3C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1DFF-0F5A-4104-8A52-2A66AF24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9A0C-D4B7-427A-B07A-BAE893A5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F187-EB9B-4BEB-A46D-2FAD0B4B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2BAD-6067-458C-917C-29EF2353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BB336-D226-4E17-9728-E011117304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