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03529"/>
        <c:axId val="24556925"/>
      </c:barChart>
      <c:catAx>
        <c:axId val="34503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56925"/>
        <c:crosses val="autoZero"/>
        <c:auto val="1"/>
        <c:lblAlgn val="ctr"/>
        <c:lblOffset val="100"/>
        <c:noMultiLvlLbl val="0"/>
      </c:catAx>
      <c:valAx>
        <c:axId val="24556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03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220-1DB3-4223-9F44-3539FADE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C1B-3547-48CF-9190-C9AF602D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175-C2D4-4FD4-B42F-867C5A02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165-517F-4D4C-980D-BC71AF20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E0D-312F-4750-8FF6-88634831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914-1EA0-4AB8-97AA-38784FAD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B17-D7BD-4B0A-8332-4AA8F9EE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DD7-A16A-49EE-A394-B872FC60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2D5-C847-4240-9924-515C411A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AC9-D0B3-4F64-B9E8-FE75FC91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4B6-EEEA-460D-A2A2-38F25D27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A53-8FCE-4DB7-99F8-CA1536A8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517DF-67B5-432B-9352-02CA3B24A7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