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8440"/>
        <c:axId val="95971258"/>
      </c:barChart>
      <c:catAx>
        <c:axId val="9338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1258"/>
        <c:crosses val="autoZero"/>
        <c:auto val="1"/>
        <c:lblAlgn val="ctr"/>
        <c:lblOffset val="100"/>
        <c:noMultiLvlLbl val="0"/>
      </c:catAx>
      <c:valAx>
        <c:axId val="95971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4E5-C1B3-430B-9407-77379C9B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170-8154-4DA0-A7D4-1929540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602-6712-46AE-91BC-60048D16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21C-D5E7-426D-9701-8496DA55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29D-DD9E-4E82-82EE-F0D8214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B1C-5FB5-4268-970E-AF19602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3B9-8CEB-4B02-98A5-12198C9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64A-B2E6-48BC-A4C1-8C97FDB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940-480E-49F0-AAC5-0BAB029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A90-80E6-477F-8370-A16917F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C4C-7C3B-4A6E-ADA0-0916019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40D-8BEF-4252-ADDC-1342065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BF9C0-4111-4CA5-9FAF-EEBD2A4ED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